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FFCA-D5A7-4965-B67D-F0D40C0FA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A7B9-AE86-418B-9600-78E545821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D166-9A04-4381-AECC-0349D77CF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4C71-BB30-4303-A798-39CEE0F0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3FCC-A732-45C7-A347-8789A1377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89DF-1C14-4AC6-B6E4-9C79C5405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9D6D-EE05-42F3-8356-6EBBF5BAE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ECFE-D742-4F22-9087-D71735CF5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A5D6-4CF6-43FE-956D-554743F88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AFED-A0BA-4BE3-BD83-2C6EB9481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22E7-2789-4188-9077-D79427ECA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1C91-C93A-4A38-9ED3-2DF165EA5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A30F-71C2-4E0E-AEB0-2BE69212C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DEFA-4289-4BE8-B403-C148E3E28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8B79-EC75-474A-881A-9C48EEA91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EAF7-FE38-448B-9B02-F6E259AAE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501E-EE00-4D2C-BF06-41B6C9791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31CB-50C2-44D8-B3EB-1764C584E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9331-424B-4DC8-823B-7365A15F4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6C60-583F-4D02-8C96-0A64AA360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3565-9A17-4D87-B8B4-C49A24904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AB60-332F-481F-8F4D-5D013ADAA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C37D-3F9B-4FD0-94BB-07E099120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0BC0-A62A-4102-8139-5C49555A2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CFB2-2E1B-463C-AE59-60A90FCD2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C343-5590-4862-BD91-418059B9F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24BC-F00D-4295-8D9D-3F3E8C26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B08F-3AE1-447F-8C14-D07DE67F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7B07-8F29-493B-A425-45C6808E6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BEDE-ACA5-4828-B059-B07891DFC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248-FCF7-42B2-85D7-0E881BE9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9E2-E111-4510-AFA7-5C419FFA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E66-7FE5-4DBD-A099-2B12037F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67A-83F3-4D12-8048-B8398DEA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1D0-0EC8-4431-A898-DB9C762C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2FE-24AF-4211-A578-0F0A543D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821-0EE1-4833-9AA6-E209329D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204-8790-4AB5-83C7-A711859D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50F-AB83-43AA-8154-7A2DB7B7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B95-FA9F-4917-825E-AB2CBF5C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087-6366-4558-9BF4-1D25AB6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C02-C4F4-43D8-9F28-75615B31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8D38-4E16-45F1-9A19-65577B725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4092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A0DC-518D-4ADE-8E93-AE2EC25092A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МЕТОДИ АНЕСТЕЗИЈЕ У СТОМАТОЛО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7720" y="3885840"/>
            <a:ext cx="77202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( B5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0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2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локална анестезија, седација, општа анестезија, индикације и 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контраиндикације за примену анестез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</a:t>
            </a:r>
            <a:r>
              <a:rPr b="1" i="1" lang="sr-RS" sz="1400" spc="-1" strike="noStrike">
                <a:solidFill>
                  <a:srgbClr val="000000"/>
                </a:solidFill>
                <a:latin typeface="Palatino Linotype"/>
              </a:rPr>
              <a:t>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49320" y="3700440"/>
            <a:ext cx="478332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601920" y="6180120"/>
            <a:ext cx="78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20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2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0" y="6424560"/>
            <a:ext cx="40356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4060-765C-421D-AAF6-0037BACC512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1. Узраст и опште стање пацијент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63400" y="1828800"/>
            <a:ext cx="810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избор метода или технике анестезије могу утицати  многа обољењ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рдиоваскуларн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спираторн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ољења јетре и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ндокрин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емофилија и остала обољења са хеморагијским синдр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лергијска обоље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уролош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сихијатријс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0" y="6424560"/>
            <a:ext cx="3846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F699-5650-43A3-9A3C-477510B6739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1. Узраст и опште стање пацијент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401760" y="1392120"/>
            <a:ext cx="8253360" cy="63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КАРДИОВАСКУЛАРН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Примена локалне анестезије има много мање опасности од примене опште анестезије. ( дати предност локалној анестезији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Примена локалног анестетика са адреналином </a:t>
            </a:r>
            <a:r>
              <a:rPr b="0" lang="sr-CS" sz="2200" spc="-1" strike="noStrike">
                <a:solidFill>
                  <a:srgbClr val="ff0000"/>
                </a:solidFill>
                <a:latin typeface="Palatino Linotype"/>
              </a:rPr>
              <a:t>није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контраиндиков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Применити растворе са </a:t>
            </a:r>
            <a:r>
              <a:rPr b="0" lang="sr-CS" sz="2200" spc="-1" strike="noStrike">
                <a:solidFill>
                  <a:srgbClr val="ff0000"/>
                </a:solidFill>
                <a:latin typeface="Palatino Linotype"/>
              </a:rPr>
              <a:t>мањом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концентрацијом адреналина ( фелипресин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Избећи интраваскуларну апликацију анестетика (аспирациј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Пацијенти са срчаним аритмијама не представљају посебан проблем за примену локалне анестез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На смањење стреса повољно утиче примена анксиолит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0" y="6424560"/>
            <a:ext cx="3976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8B5A-6EA3-4533-8004-D7F7E7DB54A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1. </a:t>
            </a: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Узраст и опште стање пацијент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501480" y="1741320"/>
            <a:ext cx="81169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цијенти са урођеним или стеченим срчаним ман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цијенти са коронарном болешћу или скоро прележаним инфар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цијенти са хипертенз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0000"/>
                </a:solidFill>
                <a:latin typeface="Palatino Linotype"/>
              </a:rPr>
              <a:t>ПРАВИЛ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1800" spc="-1" strike="noStrike">
                <a:solidFill>
                  <a:srgbClr val="ff0000"/>
                </a:solidFill>
                <a:latin typeface="Palatino Linotype"/>
              </a:rPr>
              <a:t>ПАЦИЈЕНТА МАКСИМАЛНО ЗАШТИТИТИ ОД СТ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1800" spc="-1" strike="noStrike">
                <a:solidFill>
                  <a:srgbClr val="ff0000"/>
                </a:solidFill>
                <a:latin typeface="Palatino Linotype"/>
              </a:rPr>
              <a:t>ПОТПУНА ЕЛИМИНАЦИЈА БОЛА У ТОКУ ИНТЕРВЕН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1800" spc="-1" strike="noStrike">
                <a:solidFill>
                  <a:srgbClr val="ff0000"/>
                </a:solidFill>
                <a:latin typeface="Palatino Linotype"/>
              </a:rPr>
              <a:t>КОД ПРИМЕНЕ СЕДАЦИЈЕ ОБЕЗБЕДИТИ МОНИТОРИНГ ПАЦ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1. Узраст и опште стање пацијент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Коронарна болест или инфаркт миокарда (свежи) посебна опасност пацијената за рад у општој анестез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Хируршке интервенције у општој анестезији не треба вршити у првих шест месеци после прележаног инфаркта миока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Локална анестезија има предност у односу на општу анестез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Пацијенти са хипертензијом, који се редовно лече и узимају терапију не представљају  проблем за избор метода за сузбијање б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432E-27DC-4F97-8140-09761D8AF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1</a:t>
            </a:r>
            <a:r>
              <a:rPr b="1" i="1" lang="sr-CS" sz="3200" spc="-1" strike="noStrike">
                <a:solidFill>
                  <a:srgbClr val="000066"/>
                </a:solidFill>
                <a:latin typeface="Palatino Linotype"/>
              </a:rPr>
              <a:t>. </a:t>
            </a: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Узраст и опште стање пацијент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РЕСПИРАТОРНА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Код пацијената са смањеним виталним капацитетом  (хронични бронхитис, енфизем ) или преосетљивошћу трахеобронхијалног стабла (акутна респираторна обољења, бронхијална астма ), предност у избору метода анестезије увек има локална анестез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Palatino Linotype"/>
              </a:rPr>
              <a:t>Код пацијената с алергијским бронхитисом треба избегавати примену локалних анестетичких раствора који, као стабилизатор, имају </a:t>
            </a:r>
            <a:r>
              <a:rPr b="0" lang="sr-RS" sz="2200" spc="-1" strike="noStrike">
                <a:solidFill>
                  <a:srgbClr val="ff0000"/>
                </a:solidFill>
                <a:latin typeface="Palatino Linotype"/>
              </a:rPr>
              <a:t>натријум мета-бисулфит</a:t>
            </a:r>
            <a:r>
              <a:rPr b="0" lang="sr-RS" sz="2200" spc="-1" strike="noStrike">
                <a:solidFill>
                  <a:srgbClr val="000000"/>
                </a:solidFill>
                <a:latin typeface="Palatino Linotype"/>
              </a:rPr>
              <a:t> због могуће преосетљивости на овај састојак раств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73E7-8720-40D7-BBC0-B354E14F172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1</a:t>
            </a: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. Узраст и опште стање пацијент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ОБОЉЕЊА ЈЕТРЕ И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Цироза јетре, акутни хепатитис битно успоравју метаболисање многих супстанци које се примењују у току давања опште анестезије, па је њихово дејство проду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Локални анестетици амидног типа код пацијената са цирозом јетре налазе се приближно у двоструко већим количинама и знатно дуже него код здравих пације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редност дати </a:t>
            </a: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локалној анестезији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због мање могућности токсичног дејства на организ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E8F9-2BA0-40D2-9B72-486BD191616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0" y="6424560"/>
            <a:ext cx="3948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45F6-2DF0-4515-B732-1A68ABBE81E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1. Узраст и опште стање пацијент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550800" y="1754280"/>
            <a:ext cx="80676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риликом избора анестезије, треба водити рачуна и о функцији бубрега, уколико се користе лекови који се излучују преко њ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То је практично увек случај кад се користи метода седације и опште анестезије, где треба узети у обзир продужено дејство лека каји се кори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з ових разлога се општа анестезија и метода седације морају изводити амбулан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1. Узраст и опште стање пациј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ЕНДОКРИНА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Шећерна болест ( </a:t>
            </a: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предност локална анестезија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Хипертиреоза ( </a:t>
            </a: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анестетик без адреналина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нсуфицијенција надбубрежних жлезда (Адисонова болест) и сви пацијенти на терапији кортикостероидима из других разлога (</a:t>
            </a: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 предност локалној анестезији, због детаљне анестезиолошке припреме код метода опште анестезије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655B-8604-4FBF-9A0F-F52075677E0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0" y="6424560"/>
            <a:ext cx="4064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8774-5474-4062-A9AD-29F871DBB7C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1. Узраст и опште стање пациј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488880" y="1616040"/>
            <a:ext cx="8166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ХЕМОФИЛИЈА И ОБОЉЕЊА С ХЕМОРАГИЈСКИМ СИНДРО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ност дати оротрахеалној интубацији јер назотрахеална може дати продужено крвар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нтраиндиковано је давање интрамускуларних инјекција због развоја хемат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ност дати локалној анестезији али уз максималан опрез због могућности интраваскуларне аплик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ност увек дати терминалној техници у односу на спроводне технике локалне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декватна припрема факторима који недостају код хемофилије пре интервенције обавезна код оралнохируршких интервен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1. Узраст и опште стање пациј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Palatino Linotype"/>
              </a:rPr>
              <a:t>АЛЕРГИЈСКА 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Доказана преосетљивост организма представља апсолутну контраиндикацију за примену супстанце на коју је пацијент преосетљи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Локални анестетици амидног типа ( лидокаин ) веома су безбедни у смислу могућег изазивања алергијских реакц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Palatino Linotype"/>
              </a:rPr>
              <a:t>Алергијску реакцију могу да изазову не само анестетици већ и други састојци локалних анестичких раствора, стабилизатори, као што су </a:t>
            </a:r>
            <a:r>
              <a:rPr b="0" lang="sr-RS" sz="2200" spc="-1" strike="noStrike">
                <a:solidFill>
                  <a:srgbClr val="ff0000"/>
                </a:solidFill>
                <a:latin typeface="Palatino Linotype"/>
              </a:rPr>
              <a:t>метилпарабен</a:t>
            </a:r>
            <a:r>
              <a:rPr b="0" lang="sr-RS" sz="2200" spc="-1" strike="noStrike">
                <a:solidFill>
                  <a:srgbClr val="000000"/>
                </a:solidFill>
                <a:latin typeface="Palatino Linotype"/>
              </a:rPr>
              <a:t> и </a:t>
            </a:r>
            <a:r>
              <a:rPr b="0" lang="sr-RS" sz="2200" spc="-1" strike="noStrike">
                <a:solidFill>
                  <a:srgbClr val="ff0000"/>
                </a:solidFill>
                <a:latin typeface="Palatino Linotype"/>
              </a:rPr>
              <a:t>натријум мета-бисулфат</a:t>
            </a:r>
            <a:r>
              <a:rPr b="0" lang="sr-RS" sz="2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444E-80C1-4656-B9C8-93D39806F92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9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9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D68D-9607-4BE3-9888-4EE3070D311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66"/>
                </a:solidFill>
                <a:latin typeface="Palatino Linotype"/>
              </a:rPr>
              <a:t>Методи анестез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Анестезија ткива за извођење стоматолошких интервенција може се обезбедити примен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Palatino Linotype"/>
              </a:rPr>
              <a:t>Локалне анесте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289" t="1780" r="13402" b="32925"/>
          <a:stretch/>
        </p:blipFill>
        <p:spPr>
          <a:xfrm>
            <a:off x="457200" y="3179880"/>
            <a:ext cx="4114800" cy="305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4684680" y="3179880"/>
            <a:ext cx="4346640" cy="30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1. Узраст и опште стање пациј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Palatino Linotype"/>
              </a:rPr>
              <a:t>НЕУРОЛОШКА 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редност дати локалној анестезији кад год је то могућ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осебан опрез код пацијената са епилепсијом због могућег напад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Код пацијената са </a:t>
            </a:r>
            <a:r>
              <a:rPr b="0" i="1" lang="sr-CS" sz="2400" spc="-1" strike="noStrike">
                <a:solidFill>
                  <a:srgbClr val="000000"/>
                </a:solidFill>
                <a:latin typeface="Palatino Linotype"/>
              </a:rPr>
              <a:t>миастенијом гравис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не користити </a:t>
            </a: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прокаин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( смањује детоксикацију антихолин естеразинских лекова у плаз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B692-A2FC-489F-BA5A-95D77767FB8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424560"/>
            <a:ext cx="3990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5958-06A3-4D1B-8DA5-41A1380D803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1. Узраст и опште стање пациј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318960" y="1766880"/>
            <a:ext cx="851220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ПСИХИЈАТРИЈСКА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Palatino Linotype"/>
              </a:rPr>
              <a:t>ПРЕДНОСТ дати </a:t>
            </a:r>
            <a:r>
              <a:rPr b="1" lang="sr-CS" sz="3200" spc="-1" strike="noStrike">
                <a:solidFill>
                  <a:srgbClr val="ff0000"/>
                </a:solidFill>
                <a:latin typeface="Palatino Linotype"/>
              </a:rPr>
              <a:t>ОПШТОЈ</a:t>
            </a:r>
            <a:r>
              <a:rPr b="1" lang="sr-CS" sz="3600" spc="-1" strike="noStrike">
                <a:solidFill>
                  <a:srgbClr val="ff0000"/>
                </a:solidFill>
                <a:latin typeface="Palatino Linotype"/>
              </a:rPr>
              <a:t> АНЕСТЕЗИЈИ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Palatino Linotype"/>
              </a:rPr>
              <a:t>Ако се предвиђена стоматолошка интервенција изводи у локалној анестезији треба проверити да ли супацијентима ординирани лекови из групе инхибитора моноаминооксидазе (трициклични антидепресиви)- нису препоручени анестетички раствори са </a:t>
            </a:r>
            <a:r>
              <a:rPr b="0" lang="sr-RS" sz="2000" spc="-1" strike="noStrike">
                <a:solidFill>
                  <a:srgbClr val="ff0000"/>
                </a:solidFill>
                <a:latin typeface="Palatino Linotype"/>
              </a:rPr>
              <a:t>нораденал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0" y="6424560"/>
            <a:ext cx="412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1397-0BAD-4887-8FDB-6C04B79D5DD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2. Обим и врста стоматолошке интервен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525600" y="1766880"/>
            <a:ext cx="818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Иако се у стоматолошкој пракси предност даје локалној анестезији, у појединим случајевима сам обим и дуготрајност, пре свега хируршких интервеција може условити примену опште анесте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Немогућност ефикасног деловања локалне анестезије из било којих разлога ( инфламација, развојне малформације или присуство тумора ) изискује примену опште анесте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204B-267D-4248-8C80-BE0D4974848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3. Жеља пациј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0" name="Picture 5" descr="imagesCAWZYXNX.jpg"/>
          <p:cNvPicPr/>
          <p:nvPr/>
        </p:nvPicPr>
        <p:blipFill>
          <a:blip r:embed="rId1"/>
          <a:stretch/>
        </p:blipFill>
        <p:spPr>
          <a:xfrm>
            <a:off x="2062080" y="1495440"/>
            <a:ext cx="4824360" cy="482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4. Ставови, склоност и могућности лекар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6511-06A6-4ACF-B030-750686CBDCE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Резултат слика за fuuny extraction&quot;"/>
          <p:cNvPicPr/>
          <p:nvPr/>
        </p:nvPicPr>
        <p:blipFill>
          <a:blip r:embed="rId1"/>
          <a:stretch/>
        </p:blipFill>
        <p:spPr>
          <a:xfrm>
            <a:off x="619200" y="1744560"/>
            <a:ext cx="3714840" cy="4205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Резултат слика за fuuny extraction&quot;"/>
          <p:cNvPicPr/>
          <p:nvPr/>
        </p:nvPicPr>
        <p:blipFill>
          <a:blip r:embed="rId2"/>
          <a:stretch/>
        </p:blipFill>
        <p:spPr>
          <a:xfrm>
            <a:off x="4824360" y="1758960"/>
            <a:ext cx="3686400" cy="42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0" y="6424560"/>
            <a:ext cx="391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F61-113B-4938-8CDE-2BE5875702B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дикације за примену појединих метода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425520" y="1316160"/>
            <a:ext cx="821700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Palatino Linotype"/>
              </a:rPr>
              <a:t>ЛОКАЛНА АНЕСТЕЗ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дик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лиминисање бола приликом свих болних стоматолошких интервенциј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јагностички поступак приликом утврђивања узрока нејасних болова у пределу лица и ви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вољ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же се постићи потпуна безболност при рад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цијент је будан и кооперабил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новне физиолошке функције се не ремете</a:t>
            </a:r>
            <a:r>
              <a:rPr b="0" lang="sr-RS" sz="2000" spc="-1" strike="noStrike">
                <a:solidFill>
                  <a:srgbClr val="000000"/>
                </a:solidFill>
                <a:latin typeface="Palatino Linotyp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тод је једноставан за примену и није потребна скупа опр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лакшан је хируршки рад услед вазоконстри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FB9B-C63C-42E7-A79D-67878F2C96B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дикације за примену појединих метода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550800" y="1677960"/>
            <a:ext cx="81169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Релативне контраиндик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обе са којима се тешко успоставља конта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ристанак пацијента на локалну анестезиј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ка обољењ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лергија на поједине састојке локалних анаестетичких раств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фекција на месту апликациј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Palatino Linotype"/>
              </a:rPr>
              <a:t>Велике орално хируршке интервенциј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Palatino Linotype"/>
              </a:rPr>
              <a:t>Аномалије положаја структура значајних за орјента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0" y="6424560"/>
            <a:ext cx="391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5CAC-57D6-484C-A281-E913CEA398B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дикације за примену појединих метода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378000" y="1287360"/>
            <a:ext cx="820404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Palatino Linotype"/>
              </a:rPr>
              <a:t>СЕД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Индик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Стварање услова да веома уплашени и нервозни пацијенти ипак; поднесу стоматолошку интервенцију у локалној анестезиј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Омогућавање рада у устима код пацијената са изразитим рефлексом на повраћа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Повољ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Омогућен третман пацијената који су неподобни за сарадњ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Подиже се праг реакције на бол, чиме се повећава ефикасност локалног анестет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Изазива антероградну амнезију различитог интезитета и трајања; зависно од дозе примењеног лека и његовог пута уноше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4CBB-DC94-4903-A483-E246BF4A648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Индикације за примену појединих метода анестез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538200" y="1741320"/>
            <a:ext cx="81676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Релативне контраиндик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зната алергија на лек који се примењује за седациј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ристанак пацијента за примену седациј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 препоручује се за рад пацијентима са психијатријским обољењима , обољењима јетре и бубрега, као ни рад са трудница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суство обученог персон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лазак пацијента без пратиоца и немогућност адекватне постоперацијске не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3CE0-5A35-4D4E-8E8B-5A6D457B74E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дикације за примену појединих метода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501480" y="1803240"/>
            <a:ext cx="819180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Palatino Linotype"/>
              </a:rPr>
              <a:t>ОПШТА</a:t>
            </a: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 АНЕСТЕ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дик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перације у максилофацијалној и великој оралној хирургиј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ултипно вађење зуба, из више квадраната вили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цизија апсцеса дубоких простора ли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обе са којима не може да се успостави потребна; сарадња у току интервенциј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ични захтев пациј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66"/>
                </a:solidFill>
                <a:latin typeface="Palatino Linotype"/>
              </a:rPr>
              <a:t>Методи анестез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Palatino Linotype"/>
              </a:rPr>
              <a:t>2. Седације (уз локалну анестезиј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9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9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68CC-BA40-4A21-BCB4-1C8DCDB9DEA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33520" y="2546280"/>
            <a:ext cx="4038480" cy="358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4648320" y="2546280"/>
            <a:ext cx="4290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501E-415B-4FDB-AC43-A2F87906B2F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дикације за примену појединих метода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476280" y="1803240"/>
            <a:ext cx="819144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Повољ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могућено извођење стоматолошке интервенције особама код којих није погодна примена локалне анестез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могућено безболно извођење већих орално хируршких захв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Релативне контраиндик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утне респираторне инфекције и поједина општа хронична обољења(без одговарајуће припреме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цијент који није интернистички припремљ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цијент који је имао оброк у претходних шест часова или који нема пратиоца (амбулантно извођење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66"/>
                </a:solidFill>
                <a:latin typeface="Palatino Linotype"/>
              </a:rPr>
              <a:t>Методи анестез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04800"/>
            <a:ext cx="403848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Palatino Linotype"/>
              </a:rPr>
              <a:t>3. Опште анесте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9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9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B873-C3C3-4AAD-8A04-ACC147429E4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504800"/>
            <a:ext cx="403848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Palatino Linotype"/>
              </a:rPr>
              <a:t>4. Алтернативни поступци (</a:t>
            </a:r>
            <a:r>
              <a:rPr b="0" i="1" lang="sr-RS" sz="2400" spc="-1" strike="noStrike">
                <a:solidFill>
                  <a:srgbClr val="000000"/>
                </a:solidFill>
                <a:latin typeface="Palatino Linotype"/>
              </a:rPr>
              <a:t>акумпуктура и хипн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5" descr=""/>
          <p:cNvPicPr/>
          <p:nvPr/>
        </p:nvPicPr>
        <p:blipFill>
          <a:blip r:embed="rId1"/>
          <a:stretch/>
        </p:blipFill>
        <p:spPr>
          <a:xfrm>
            <a:off x="457200" y="2081160"/>
            <a:ext cx="342576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AD86-04AB-4BFD-9B04-A51376E8D66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Методи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714240" y="1741320"/>
            <a:ext cx="791532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Избор оптималног метода анестезије зависи од више фактор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аста и општег здравственог стања пациј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има и врсте стоматолошке интервен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Жеље пациј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авова, склоности и могућности лек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( ДОБРОБИТ ПАЦИЈЕНТ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0" y="6424560"/>
            <a:ext cx="37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DDFB-6E85-4120-A628-0A9BBEF743B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360" y="237960"/>
            <a:ext cx="8702640" cy="11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1. </a:t>
            </a: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Узраст и опште стање пацијент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488880" y="1967040"/>
            <a:ext cx="81169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Де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Palatino Linotype"/>
              </a:rPr>
              <a:t>Веома стари пацијенти (геронтостоматологиј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773600" y="1616040"/>
            <a:ext cx="361332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0" y="6424560"/>
            <a:ext cx="3801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2963-CCE8-4F20-8986-DBDFFFACA72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1. Узраст и опште стање пациј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88880" y="1327320"/>
            <a:ext cx="819144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Palatino Linotype"/>
              </a:rPr>
              <a:t>Код  деце често је потребна примена опште анестез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Palatino Linotype"/>
              </a:rPr>
              <a:t>Обим стоматолошке интервенције игра важну улогу код избора методе анестез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Palatino Linotype"/>
              </a:rPr>
              <a:t>Кад је могуће успоставити квалитетан однос са дететом предност дати локалној анестезиј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C:\Users\Zoran\Downloads\anestezija\imagesCAV3BU84.jpg"/>
          <p:cNvPicPr/>
          <p:nvPr/>
        </p:nvPicPr>
        <p:blipFill>
          <a:blip r:embed="rId1"/>
          <a:stretch/>
        </p:blipFill>
        <p:spPr>
          <a:xfrm>
            <a:off x="981000" y="4240080"/>
            <a:ext cx="334800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4572000" y="4240080"/>
            <a:ext cx="3591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0" y="6424560"/>
            <a:ext cx="381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6C5A-6E9C-460F-BE32-9BEA7B618E0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1. Узраст и опште стање пациј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25520" y="1766880"/>
            <a:ext cx="8155080" cy="50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старијих пацијената кад је могуће, дати предност локалној анестез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ff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Palatino Linotype"/>
              </a:rPr>
              <a:t>ОПРЕЗ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ff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МОГУЋНОСТ ХРОНИЧНИХ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ff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ПРИМЕНА МЕДИКАМЕНТОЗНЕ 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ff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buClr>
                <a:srgbClr val="ff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(ДЕТАЉНА ОПШТА АНАМНЕ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ернистичка припр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0" y="6424560"/>
            <a:ext cx="3860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CBA8-6FFA-40CF-BAB5-4092E35C387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1. Узраст и опште стање пацијен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85640" y="1346040"/>
            <a:ext cx="81406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трудница, примена седације и опште анестезије није индикована , па интервенције треба одложити за период после порођа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ристити </a:t>
            </a:r>
            <a:r>
              <a:rPr b="1" lang="sr-CS" sz="2400" spc="-1" strike="noStrike" u="sng">
                <a:solidFill>
                  <a:srgbClr val="ff0000"/>
                </a:solidFill>
                <a:uFillTx/>
                <a:latin typeface="Palatino Linotype"/>
              </a:rPr>
              <a:t>фелипресин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о вазоконстрик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73120" y="3319560"/>
            <a:ext cx="8140680" cy="31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Stefan</cp:lastModifiedBy>
  <dcterms:modified xsi:type="dcterms:W3CDTF">2020-02-14T07:34:39Z</dcterms:modified>
  <cp:revision>249</cp:revision>
  <dc:subject/>
  <dc:title>NAZIV PREDAVANJA</dc:title>
</cp:coreProperties>
</file>